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5A2-E6BE-4C61-B992-B7662D73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567-FE2E-4CB0-83E4-2A01211C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699-5AFD-43DB-8044-FE4592BB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D89-9A44-4B06-B13E-24B46239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7B3-3B7B-4E6E-88D7-1D214CA3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F0C-A0E5-4C82-B5C9-5F376319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9AA0-E4AA-4C60-B818-CE15E7EA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493-4F9D-48F4-A582-B19AD676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3C7-D18D-4CB0-B590-A50EF3D4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1D8-3276-4B39-A7EF-399E0D16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DE9-A1FC-448F-BF05-61870AB2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A7C-A945-4DDF-AC7A-418F344E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8761-8EB8-40E5-ADFE-90B5C85BF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 to jest SSH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rotokół Secure Shell - bezpieczny dostęp do systemów ‘uniksowych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ełna funkcjonalność programu Tel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zyfrowanie wszystkich przesyłanych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rt Forwar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9DC-78F3-4637-A40F-825F1C136A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Gdy SSH funkcjonuje prawidłowo na serwerze usługi internetowe nie są obsługiwane przez stale aktywne, wyspecjalizowane demony - w razie potrzeby centralny demon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inetd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uruchamia poszczególne usług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yjątek: serwer WWW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httpd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powinien funkcjonować non-s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Usługi stale aktywne definiujemy w pliku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/etc/inetd.co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F930-DFDF-430F-A920-17745AA3D2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Port Forwar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echanizm umożliwiający użycie bezpiecznego kanału transmisyjnego do innych zada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ożna przekierować dowolny port na inny ser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ssh -L &lt;port_lokalny&gt;:&lt;serwer&gt;:&lt;port zdaln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39F-CD55-4A11-9ACF-E8BE78893F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zwala to na kierowanie poprzez bezpieczny kanał danych przeznaczonych dla niechronionych port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ożna w ten sposób np. szyfrować pocztę przekazywaną poprzez protokół POP3, chociaż sam POP3 zapewnia zupełnie jawną transmisje dany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sh -L 110.goblin.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69E-D9C1-48C1-AC4E-6CB66C4EC6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SH dla Wind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rodukty niekomercyjne nie współpracują z mechanizmem Port Forwar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ajbardziej zaawansowany produkt komercyjny: F-Secure firmy Data Fel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449-3E02-4142-92AE-A3C6EB8B6A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66680" y="228600"/>
            <a:ext cx="698688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lgorytmy stosowane do kodowania dany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SH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S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DE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DE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lowfis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wofis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rcfou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ast128-cb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lgorytmy stosowane do autoryzac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SH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S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D6F-00C1-4DF1-94E6-83714DCB00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sh1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C35-C45F-4491-A5C5-E87B35D2B8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sh2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49A-4AB7-4F64-807B-A35ADF4824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sh3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539-7887-449E-AFF4-07B63B24DE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sh4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385-AD4C-4185-B27F-4A401B2576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SH-A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o czego służy SSH Ag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 wykonaniu komendy ssh-ag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SH_AUTH_SOCK=/tmp/ssh-root/ssh-4796-ag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xport SSH_AUTH_SOC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SH_AGENT_PID=4797; export SSH_AGENT_P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cho Agent pid 4797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sh-add - polecenie dodające klucz prywat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d tej pory SSH AGENT autoryzuje w tle każdą transmisj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792-2B5F-4A79-AE87-44E90DDEDB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tr%20234%20bezpieczna%20org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429680" cy="3171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838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truktura mechanizmu kryptograficznego Secure Sh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6E1-EE1B-4FC3-9CE6-515E463EDE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CP - Secure Co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laczego SCP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rzykład uzycia scp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p login@kompter:/sciezka/do/pliku /sciezka/loka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u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p login@kompter:/sciezka/do/pliku login@kompter:/sciezka/do/pliku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pcja „-C” umożliwia kompresje da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C1B-DE86-4AEC-B902-2A8D53A70E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Port Forwar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rzekazywanie port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ezpieczne połączen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P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TP, itp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3A7-22DA-44B7-8C3F-D145590CF7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Port Forwarding c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wa sposoby połaczenia tunelowaneg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kazywanie lokalnego portu na zdalną maszyn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sh -L port:host:host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kazywanie zdalnego portu do lokalnego ho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sh -R port:host:host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5E7B-5AC8-4541-B02F-B93CEFC05D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Port Forwarding c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rzykład praktyczn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p. zestawienie tunelu z serwerem pocztowym o adresie serwer.poczta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sh –L 11110:serwer.poczta.pl: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estawi nam polaczenie do serwera po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stepnie jeśli wykonamy dla testo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elnet  localhost 111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5C9-2C43-4FCF-8701-17A1C7859C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X Forw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rzekazywanie środowiska X Windows do localnego ho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nicjalizac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sh-agent startx 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E22-223D-4286-A251-A969DB821A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posoby autentyka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lik .rhost zawiera nazwy komputerów i nazwy uzytkownik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HOST+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1F5-8566-4A15-AA4F-4EDBFA8BFE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OSE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Uruchomienie połączenia SSH z parametrem -v powoduje wypisanie na ekran komunikatów z nawiązywania połaczenia S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1E4-3F52-4B05-9E7E-D26A12C255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rogramy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klienckie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najczęściej noszą taką samą nazwę jak protokół -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SH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oduł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erwerowy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otrzymał nazwę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SHD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( SSH Daemon 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ajczęściej zarówno serwer sshd, jak i klient ssh jest instalowany wraz z systemem operacyjnym - uruchomienie następuje zaraz po starcie system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3F9-D374-449D-9F3A-6FE02BC303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zyskanie dostępu do zdalnego syste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 stronie klienta należy wydać polecenie: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sh -l &lt;użytkownik&gt; &lt;adres serwera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 podaniu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hasła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uzyskamy dostę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dentyfikacja użytkowników działa przy użyciu nazw i hase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A35-93B4-4195-9454-1CE67DD115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tr%20234%20wzajemne%20org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29680" cy="466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1760" y="609480"/>
            <a:ext cx="77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wiązywanie połączeń z wykorzystaniem protokołu S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FBB-344D-444E-9CE1-584034A78F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Technika Public K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Zadanie: zwiększenie bezpieczeństwa identyfikacji użytkownik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Generowana jest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ara kluczy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Public Key jest wysyłany do zdalnego serwera i umieszczony w macierzystym katalogu użytkowni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9F2-1BE7-4FDD-9A3B-84CAE8A208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owanie kluc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lecenie systemowe: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sh-keygen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lucz prywatny: standardowo w pliku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identity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podkatalogu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.s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arametr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assphrase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- możliwość ustawienia hasła zabezpieczającego klucz prywat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lucz publiczny: standardowo w pliku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identity.pub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atalogu macierzysty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3AA-740D-4587-93FC-DDBB703DD5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zesłanie klucza publicznego do serw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Zdalny serwer SSH nie szuka pliku identity.pub tylko pliku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uthorized_keys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ależy więc „doklieić” zawartość pliku identity.pub do authorized_ke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p..: cat identity.pub &gt;&gt; authorized_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46D-4977-4CE0-8B00-ADA1B1E4D5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gowanie jest już możliw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omunikat o błędzie Bad Mode - istnieje luka w sytstemie zabezpiecze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ależy wyłączyć prawa zapisu dla gru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hmod og-w /.s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E84-CC4B-4303-BAD5-D983BFCBBF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9T14:48:14Z</dcterms:created>
  <dc:creator>Tomasz Chromiński</dc:creator>
  <dc:description/>
  <dc:language>en-US</dc:language>
  <cp:lastModifiedBy>Janusz Borkowski</cp:lastModifiedBy>
  <cp:lastPrinted>2000-11-19T14:53:44Z</cp:lastPrinted>
  <dcterms:modified xsi:type="dcterms:W3CDTF">2000-11-28T16:33:05Z</dcterms:modified>
  <cp:revision>23</cp:revision>
  <dc:subject/>
  <dc:title>Bez tytułu slajdu</dc:title>
</cp:coreProperties>
</file>